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86F0-FB6E-499F-8E7A-13B66F9E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7AD-26DF-4E86-8D74-47099BAC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F94-61DD-4907-837E-901F7561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550-8C55-4644-BF58-A43D0D1C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0343-7C84-4EAF-A13D-1BDB68F8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A74E-9FCA-415A-96B9-2C930A5A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B96D-87DF-48EC-B668-98673F71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02CD-3E7C-47B1-AE91-F948EDBF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9752-92EF-41DC-8486-E7457A3A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AF07-7AE6-4354-940A-62ACE751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0FF8-8EF5-49E4-B922-16968F5D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6D5-093C-43F5-B2A2-44BE3A54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31AC-5262-4848-8EC3-F9DCA3C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2758-F00C-488E-8F39-E4B7D9B5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3B64-3545-455A-80A1-D9B0DAA7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B333-CB1F-4449-B979-78640D4E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9EEF-7300-4AA7-BBEA-2D365572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6373-7548-4C21-B06D-710CB2FD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4CD4-30E3-4F80-8D8A-6910CC1E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E3AB-443D-4B25-8A1A-24AFD0C6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AAED-1E12-463F-9C38-5ED87D65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349C-192F-4BF6-8801-628D81EA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940-43A3-4CF8-BF82-2977F751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064CB-3FB2-42EF-B79F-03A37714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282C1-221B-440D-817A-0436A0BA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6DEE4-8A7A-4434-8380-C0D3EFAF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AD04F-9683-4DC1-8405-D0712453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02CF8-4AB8-457F-B05E-A1264587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73E7-2243-4EF5-869D-8D37CB20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AE450-3A2B-421E-9FD4-BC014C8A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071AD-D4BC-4599-806D-46FA335D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A1ACA-4AD6-43C8-A3A8-3248071F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44610-F266-472B-8E3D-8D1CCC5F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F53-B16E-4469-9483-77052BA3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906BA-2049-4B8B-817C-F379E5EB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AB4B5-A12A-4973-99D6-4CC4ED07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156B8-4C50-4F71-915E-A64F764A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C7FB2-0375-4DA0-8D1A-BD2F4612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5DFD9-D0A3-48A9-BB85-56C7E825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55CD8-8DC6-4636-99AE-A1E1C4EF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18579-693A-43BE-817C-B9775207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5CF6F-793A-4E6F-860B-4F4E101C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644FE-778C-4E22-99AE-83E78DD7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927-A395-421D-A5AB-F6618D80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40F-E245-40CC-BBCF-FCF1E61D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5C68-C550-4E0A-A2D1-86EFC0F5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540-418E-467E-A725-AF99F1B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4FF-0461-4B64-8EA7-37F75607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70AF-176F-440D-8939-893F1BCE85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94D7-2478-4448-983D-EEFCBB689D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5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80A0-F906-434F-BEC9-40715A038D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CACD-FA9E-4ADB-979F-46BA134F83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60;&#1072;&#1082;&#1090;&#1086;&#1088; &#1061;&#1054;&#1063;&#1059;" TargetMode="External"/><Relationship Id="rId2" Type="http://schemas.openxmlformats.org/officeDocument/2006/relationships/image" Target="../media/image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екреты выбора профе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надо учитывать при выборе профе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686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выборе профессии необходимо учитывать  факто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3500280"/>
            <a:ext cx="2592360" cy="9144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ХОЧ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5157720"/>
            <a:ext cx="2663640" cy="9144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НАД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0360" y="3429000"/>
            <a:ext cx="2211480" cy="914400"/>
          </a:xfrm>
          <a:prstGeom prst="ellipse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Arial"/>
              </a:rPr>
              <a:t>МОГ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050920" y="2637000"/>
            <a:ext cx="1944720" cy="86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995640" y="2491920"/>
            <a:ext cx="0" cy="273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924360" y="2565360"/>
            <a:ext cx="223200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627280" y="1625760"/>
            <a:ext cx="2808360" cy="210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4648320" y="1601640"/>
          <a:ext cx="4038480" cy="21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01640"/>
                    <a:ext cx="403848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>
            <a:hlinkClick r:id="" action="ppaction://hlinkshowjump?jump=previousslide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Фактор ХОЧ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елания ли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терес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кло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3816360" cy="317340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1944720" cy="692280"/>
          </a:xfrm>
          <a:custGeom>
            <a:avLst/>
            <a:gdLst>
              <a:gd name="textAreaLeft" fmla="*/ 44640 w 1944720"/>
              <a:gd name="textAreaRight" fmla="*/ 1900080 w 1944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60657" h="21600">
                <a:moveTo>
                  <a:pt x="0" y="0"/>
                </a:moveTo>
                <a:lnTo>
                  <a:pt x="60657" y="0"/>
                </a:lnTo>
                <a:lnTo>
                  <a:pt x="60657" y="21600"/>
                </a:lnTo>
                <a:lnTo>
                  <a:pt x="0" y="21600"/>
                </a:lnTo>
                <a:close/>
              </a:path>
              <a:path fill="lightenLess" w="60657" h="21600">
                <a:moveTo>
                  <a:pt x="0" y="0"/>
                </a:moveTo>
                <a:lnTo>
                  <a:pt x="60657" y="0"/>
                </a:lnTo>
                <a:lnTo>
                  <a:pt x="59257" y="1400"/>
                </a:lnTo>
                <a:lnTo>
                  <a:pt x="1400" y="1400"/>
                </a:lnTo>
                <a:close/>
              </a:path>
              <a:path fill="darken" w="60657" h="21600">
                <a:moveTo>
                  <a:pt x="60657" y="0"/>
                </a:moveTo>
                <a:lnTo>
                  <a:pt x="60657" y="21600"/>
                </a:lnTo>
                <a:lnTo>
                  <a:pt x="59257" y="20200"/>
                </a:lnTo>
                <a:lnTo>
                  <a:pt x="59257" y="1400"/>
                </a:lnTo>
                <a:close/>
              </a:path>
              <a:path fill="darkenLess" w="60657" h="21600">
                <a:moveTo>
                  <a:pt x="60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57" y="20200"/>
                </a:lnTo>
                <a:close/>
              </a:path>
              <a:path fill="lighten" w="60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Фактор МОГУ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можности лич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ровень зн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сихологическ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енности ли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е здоров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 rot="1189200">
            <a:off x="5579640" y="1698120"/>
            <a:ext cx="2702160" cy="375156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7812000" y="6308640"/>
            <a:ext cx="863640" cy="54936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2549" y="1400"/>
                </a:lnTo>
                <a:lnTo>
                  <a:pt x="1400" y="1400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2549" y="20200"/>
                </a:lnTo>
                <a:lnTo>
                  <a:pt x="32549" y="1400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9" y="20200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Фактор НАДО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треб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ынка тру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кадр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 rot="1464600">
            <a:off x="4241880" y="1998360"/>
            <a:ext cx="3840120" cy="382104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з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Е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7:36:28Z</dcterms:created>
  <dc:creator>A0001</dc:creator>
  <dc:description/>
  <dc:language>en-US</dc:language>
  <cp:lastModifiedBy>Наумов Павел</cp:lastModifiedBy>
  <dcterms:modified xsi:type="dcterms:W3CDTF">2005-04-23T08:15:04Z</dcterms:modified>
  <cp:revision>16</cp:revision>
  <dc:subject/>
  <dc:title>Секреты выбора профессии</dc:title>
</cp:coreProperties>
</file>